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4A7-3627-4746-8B8A-5C6E1211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8FB-4B35-4D07-98F4-9BDA5A67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535-66B4-4DC3-9344-3AFEBBBD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7A5-0D96-4972-9912-DB28B8F0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C42-DF93-46AB-BB12-0AC31A42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654-F7D7-4B47-A455-4FD40A4E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9BD-797A-4E38-A0A5-76AC43C3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74D-278A-4CD8-9A41-DBD40A72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F0E-85ED-4CE9-B9DA-BD27E874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227-D3BF-40DE-9533-BDDEB425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0ED-08C0-4EE5-9970-D6DDE3C2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C62-685C-4A5B-AB4C-650B55E5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D6BE-40A5-4B33-88A2-22022B8D179E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AAD7-4416-4B4E-B03E-B53CF2C3038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educate.intel.com/tr/thinkingtools/visualrankin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hmh-degerlendirme.com/intel/foru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ABE2-B43B-41F2-A385-BC3E54A8FEB7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1F17-7778-4236-9CDD-2C2FD331DB7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158c81df3fb57e7fdbd681b9c661b6f7_1276265837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B31A-5E77-4844-B485-85D73F9D819F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DE56-AC59-43AD-8730-D149B96CFE7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1 | Etkinlik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l®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ğretmen Programını Anla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0 yılında piyasaya sürülmüş dünya çapında yaygın bir program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35 ülkede 3 milyondan fazla öğretmen bu programla eğitimden geçmiş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Program, öğrenci başarısını desteklemek için öğretmen etkinliğini geliştirme ve bu süreçte teknoloji araçlarının kullanımı konularının ötesine geç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87D1-EBA0-4969-BF85-4F8F6C86AF90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4CD9-B28E-4F25-BA89-789F6BE55AF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1 | Etkinlik 4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ynakları Gözden Geçir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Kayn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D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’yi yerleştir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Buradan Başlayın’a tıklayın ve sonra CD’yi Başlatın’a tıklayı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CD içinde yer alan kaynakları inceleyin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Kaynak CD için önerebileceğiniz kaynaklar varsa bunları not alıp Eğitici Liderinize ulaştırı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9C6A-7B96-4382-B904-F7F9BB1D9C8D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1DF1-B923-4A44-947A-E5F6A31506B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1 | Etkinlik 5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knoloji Kullanımına Yönelik Web Kaynaklarını Sapta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Kayn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CD’yi yerleştir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uradan Başlayın’a tıklayın ve sonra CD’yi Başlatın’a tıklayı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ol bölmedeki Forum Araçlarını ve sonra da Forum Web Sitesini tıklayı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ağlantılar üzerine tıklayarak kaynaklara ulaşı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itelerinin içinde dolaşarak ve kitabınızdaki yönergeleri takip ederek kaynakları keşfetmeye çalışı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385C-6C6D-436F-B741-E0C237745C93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1DCA-7992-4FA6-8633-BB0D5694739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1 | Etkinlik 5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knoloji Kullanımına Yönelik Web Kaynaklarını Sapta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24000" y="184464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Hangi kaynakları yararlı buldunuz? Ne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Hangi ünite planları ilginizi çekt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ğretmenlere teknoloji kullanımı konusunda yardımcı olurken bu kaynaklar nasıl bir yarar sağlar?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804C-C10B-4C52-B5DA-D7A381A0ABC3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A567-25A4-459D-B6CD-320351F922C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2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Web 2.0 Araçlarını Keşfet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Modül Sorular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Web 2.0 teknolojilerini, okulumun ya da ilimin/ilçemin teknoloji planları içine nasıl entegre edebiliri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ğretmenler ve öğrenciler küresel topluluklarla iletişim kurabilmek, öğrenme- öğretme süreçlerini geliştirebilmek için hangi araçları kullanabilirl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Web 2.0 araçları öğretmenlerle, ailelerle, öğrencilerle ve toplum üyeleriyle gerçekleştirilen günlük iletişime nasıl bir katkı sağlar?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B77B-AE24-4120-96F8-698EBA6DB278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4CCC-7C1C-4315-9E8E-DFEC2A22B8B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2 | Etkinlik 1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Web 2.0 Araçlarını Anla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Okulunuzda ya da ilinizde/ilçenizde Web 2.0 araçlarını kullanıyor musunuz? Nası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4F46-3995-491E-8D97-78441CBFB1D2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5311-1E68-4399-B4DC-D028B2117B0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iderlik Davranış ve Standartlarını İncele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ınıfta teknoloji kullanımının nasıl olduğunu görmemiz için bir fırsat olar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odül 3 bizi etkili teknoloji kullanımını destekleyecek belirli liderlik davranışlarına götürecekti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A71A-084D-449B-9F14-CA796C5EA055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49FC-0EED-4FD4-99FF-E568957CC2E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iderlik Davranış ve Standartlarının İncelen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odül Sorular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ğretim sürecinde teknoloji kullanımını desteklemek için hangi üç liderlik davranışının temel rol oynadığına inanıyorsunuz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öneticilere yönelik hangi ulusal standartlar bulunmaktadır ve öğretim sürecinde teknolojinin etkili kullanımını desteklemek için hangi temel koşullar gereklidir?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2102-A370-4C73-A644-281C0FD93369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A316-15E1-48A8-B4ED-3AA8C47C78E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97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örsel Sıralama Aracını Tanı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424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200" spc="-1" strike="noStrike">
                <a:solidFill>
                  <a:srgbClr val="000000"/>
                </a:solidFill>
                <a:latin typeface="Arial"/>
              </a:rPr>
              <a:t>Görsel Sıralama Arac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en-US" sz="22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http://educate.intel.com/tr/thinkingtools/visualrank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Sıralama için ve listelerdeki maddelerin karşılaştırılması için ücretsiz çevrimiçi kayn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Öğretmenlerin ve öğrencilerin üzerinde çalışabilecekleri serbest bir a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4"/>
          <a:srcRect l="1275" t="25252" r="39370" b="40698"/>
          <a:stretch/>
        </p:blipFill>
        <p:spPr>
          <a:xfrm>
            <a:off x="3132000" y="3645000"/>
            <a:ext cx="44006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BEA9-3205-45C5-883C-26837711E1BC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6600-BF90-49E7-B9A5-F1291ED6AD8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1 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örsel Sıralama Aracını Tanımak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2400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tkili teknoloji kullanımını desteklemede liderlik davranışlarını sıralamak ve karşılaştırmak için </a:t>
            </a: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Görsel Sıralama Aracını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ullan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endi önem sıranıza göre davranışları sıralay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3225-2C1B-4F01-804C-EF9989642AEC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24BC-2952-4266-ACEC-0035D594FAB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Başlarken</a:t>
            </a:r>
            <a:br>
              <a:rPr sz="2600"/>
            </a:b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Forumu Tanı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Temel S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5050"/>
                </a:solidFill>
                <a:latin typeface="Arial"/>
              </a:rPr>
              <a:t>Eğitim liderleri, öğrencilerin başarılarını arttırmak amacıyla, öğretmenlerin daha etkili öğretim süreçleri yürütmelerine nasıl yardımcı olabilirl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or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99"/>
                </a:solidFill>
                <a:latin typeface="Arial"/>
              </a:rPr>
              <a:t>Intel® Öğretmen Programı Liderlik Forumu’nun temel amacı nedi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99"/>
                </a:solidFill>
                <a:latin typeface="Arial"/>
              </a:rPr>
              <a:t>Forum sonunda neler kazanmış olacaksınız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EB.tiff"/>
          <p:cNvPicPr/>
          <p:nvPr/>
        </p:nvPicPr>
        <p:blipFill>
          <a:blip r:embed="rId1"/>
          <a:stretch/>
        </p:blipFill>
        <p:spPr>
          <a:xfrm>
            <a:off x="637236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intel.tiff"/>
          <p:cNvPicPr/>
          <p:nvPr/>
        </p:nvPicPr>
        <p:blipFill>
          <a:blip r:embed="rId2"/>
          <a:stretch/>
        </p:blipFill>
        <p:spPr>
          <a:xfrm>
            <a:off x="7308720" y="587700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5D13-9B0F-40D7-AB9D-29C46A793887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E7AE-1F98-4F61-83B9-9B486CECB7E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2 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isteme Giri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ğretm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Adı: Eğitici Lid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ğretmen Adını buraya gir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Takım Adı: Kullanıc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 (xx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1’den 20’ye kadar size atanmış numaradı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Şif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Kullanıc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 (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Takım Adıyla ayn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Sonraki etkinliklerde hatırlayabilmeniz için Sisteme Giriş Bilgileri bölümüne bunları yazı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4215-DC95-43DA-9751-684D96830CC7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548E-0B9D-4577-8FBF-1FE552D41AB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vranışları Sınıflandırmak ve Sıralamak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ıralamaları Karşılaştırmak ve Tartış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isteme giri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nu zaten yapmıştını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ınıflandırın ve sıralayı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rşılaştırın ve tartışı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ydedin ve sistemden çıkı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DAB2-4FA6-429B-9598-E054866BFE40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D032-C89F-4D6A-A3B9-4911DCFBE33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ider Davranışlarının Sıralanması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 Önemliler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izyonun paylaşım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raştırmayı temel al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knoloji ortamının desteklenmes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itelikli teknoloji kullanım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knoloji kullanımında model ol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I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ynakların dağıtım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ersonelin değerlendirilmes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şit erişi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izlil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üvenl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V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18B8-7D11-478A-AD35-5695D2C2B2E1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EC1E-9006-447C-AEB4-BA410AE2E02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3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ciler için Standartları Anlamak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TE –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ğitim Teknolojisi Uluslararası Topluluğ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 –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lusal Eğitim Teknolojisi Standart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 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öneticiler iç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 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ğretmenler iç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 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ğrenciler içi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53E7-C992-4D18-8CC4-20BB3B57909E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87F0-B1EA-4A07-BA0F-7C6374D8381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3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STE NETS-A Standartlarını İncele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324000" y="1557360"/>
          <a:ext cx="8496000" cy="424800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.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ğrenme ve Öğret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sleki Uygulamalar/Üstlenilen Görevl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.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İşlemlik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.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t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AB65-F1AA-4E9F-BBC0-423B96C39F3A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3DDF-9332-4C63-BAF6-4A510A91DD2A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4: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ıralamayı Tekrar Gözden Geçir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elirlediğiniz en önemli lider davranışlarını hatırlay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-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örsel Düzenleyicisinde yer alanlar ile kendi belirlediklerinizi karşılaştır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rubunuzla/arkadaşınızla yaptığınız karşılaştırma sonuçlarınızı paylaş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E322-6C1A-487D-9865-63400145F98A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458C-75D4-46ED-AFC3-905A8446E1A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S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odü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’ün bana en çok yardımcı olduğu kon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Görsel Sıralama Arac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TE NETS-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örsel Düzenleyic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rlikte Konuşma ve Düşün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6E33-2173-43A5-94BD-1A089BB63A47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8DB0-AE2E-4CC3-9C69-102B27E689B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ylem Planınızı Geliştirmek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knoloji kullanımının nasıl olduğunu ve etkili teknoloji kullanımını destekleyecek liderlik davranışlarının neler olduğunu gördükten son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odü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işisel eylem planınızı geliştirirken öğrendiklerinizi uygulamanıza yardımcı olacaktı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DFB8-09D6-47EB-A8A6-A88C76F429C2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8933-F2A6-49D3-B0C2-A9EC66D8F0C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endi Eylem Planınızın Yapılandırı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odül Soru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Okulumda ya da ilimde/ilçemde teknolojiden etkili ve verimli biçimde yararlanmak için kişisel olarak neler yapabiliri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ısa, orta ve uzun vadede hangi liderlik davranışlarını sergileyebilir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4827-522A-48B8-8ED0-4E9459AB3C0E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5F6A-B7B4-4A84-B38F-6E0CEF61B1F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 | Etkinlik 1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şlevsel Plan Oluştur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stekli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maçlılı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erekli kaynak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ağlantı kurulacak ya da sürece dahil edilecek kiş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Bu konuda düşündüğünüz başka bir şey var mı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9570-B837-46C9-9470-1A3234CC8384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68B3-8FCE-47A6-9C09-58193E14370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Başlark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Etkinli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Temel Ama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ntel® Öğretmen Programı Liderlik Forumu, teknolojinin öğretim ve yönetim süreçlerinde bir araç olarak etkili kullanımını teşvik etmek, desteklemek ve model olmak konularında size yardımcı olmak amacıyla oluşturulmuştu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MEB.tiff"/>
          <p:cNvPicPr/>
          <p:nvPr/>
        </p:nvPicPr>
        <p:blipFill>
          <a:blip r:embed="rId1"/>
          <a:stretch/>
        </p:blipFill>
        <p:spPr>
          <a:xfrm>
            <a:off x="6084720" y="5877000"/>
            <a:ext cx="78768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intel.tiff"/>
          <p:cNvPicPr/>
          <p:nvPr/>
        </p:nvPicPr>
        <p:blipFill>
          <a:blip r:embed="rId2"/>
          <a:stretch/>
        </p:blipFill>
        <p:spPr>
          <a:xfrm>
            <a:off x="7020000" y="587700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3E5C-F5CB-4804-A65E-23D6F4C7BF50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F599-C787-4A61-BCA1-A243BF2836E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 | Etkinlik 2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ylem Planlarını Paylaş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nızı uygularken ne tür sorunlarla karşı karşıya kalabilirsini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nemli role sahip paydaşların sürece aktif katılımını nasıl sağlayacaksını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lanınızı uygulamaya yönelik hangi acil eylemleri gerçekleştirmeye çalışırsını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Okulunuzda ya da ilinizde/ilçenizde teknoloji kullanımını yaygınlaştırmak ve geliştirmek için bireysel olarak olarak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iz ne yapacaksını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0220-B574-4454-8A8F-5D122FFC5755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F3D5-D016-40DE-8192-68DB7A72C07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 S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 için planlama yaparken en fazla aşağıdakilerin hangisinden yardım aldınız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 Şabl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 Şablon örnekl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 fikirl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Ek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na ilişkin eşleş-paylaş etkinliğ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65CE-88B6-44AE-933B-D13EAF85EB8F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B4A9-5BE8-410B-878C-9D1C674DEAA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 | Etkinlik 3 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nraki Aşamaya Odaklan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book32.tiff"/>
          <p:cNvPicPr/>
          <p:nvPr/>
        </p:nvPicPr>
        <p:blipFill>
          <a:blip r:embed="rId3"/>
          <a:stretch/>
        </p:blipFill>
        <p:spPr>
          <a:xfrm>
            <a:off x="468360" y="1782720"/>
            <a:ext cx="82072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5EC9-BFC0-4332-884D-13F5DB5DC16C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849D-4EED-4D8F-BE0F-09703BBFBCC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 | Etkinlik 4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orumu Değerlendir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evrimiçi ankete katılı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hmh-degerlendirme.com/intel/for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ağlantısına gidin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keti tamamlamak için ekrandaki yönergeleri takip ed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MEB.tiff"/>
          <p:cNvPicPr/>
          <p:nvPr/>
        </p:nvPicPr>
        <p:blipFill>
          <a:blip r:embed="rId2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intel.tiff"/>
          <p:cNvPicPr/>
          <p:nvPr/>
        </p:nvPicPr>
        <p:blipFill>
          <a:blip r:embed="rId3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2B6C-C814-4F5C-8A1A-5CB91A388555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4449-6A12-4D62-9786-B06C052F8CDA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Tebrikler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ntel® Öğretmen Programına Liderlik Forumu’na katılımınızdan dolayı teşekkür ederi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knoloji kullanımı konusundaki harcadığınız emek, zaman ve yorumlarınız için sizi tebrik ediyoruz!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5434-FCAA-4C11-AF0A-11DC517EB784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1546-DC51-413F-9555-A3386532524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0102-9877-4EB6-A624-5B930C318C12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6A60-9926-4902-AA52-3A5E53F3279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Başlark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Etkinli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Kazanım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izin hedef(ler)iniz n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eler bekliyorsunu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MEB.tiff"/>
          <p:cNvPicPr/>
          <p:nvPr/>
        </p:nvPicPr>
        <p:blipFill>
          <a:blip r:embed="rId1"/>
          <a:stretch/>
        </p:blipFill>
        <p:spPr>
          <a:xfrm>
            <a:off x="6084720" y="5877000"/>
            <a:ext cx="787680" cy="79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intel.tiff"/>
          <p:cNvPicPr/>
          <p:nvPr/>
        </p:nvPicPr>
        <p:blipFill>
          <a:blip r:embed="rId2"/>
          <a:stretch/>
        </p:blipFill>
        <p:spPr>
          <a:xfrm>
            <a:off x="7164360" y="587700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91D1-53B2-4EF3-85F3-A2C4915414F7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5318-EA13-430B-82B6-0D6B51A43D1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um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def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126828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Öğrenme-öğretme süreçlerinde teknolojinin etkili ve verimli biçimde kullanımını özendirmede, desteklemede ve bu konuda model ya da örnek olmada eğitim liderlerinin oynadığı önemli rolü incelem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sleki gelişimi, uygulamaları ve öğrencilerin kalıcı öğrenmesini desteklemek için mevcut kaynakları ve teknoloji araçlarını saptamak, bunlara erişmek ve kullanm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Öğrencilerin daha kalıcı öğrenmesini sağlamak için teknolojiden yararlanmayı teşvik eden belirli liderlik davranışlarının bir listesini oluşturm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STE Temel Koşullarını ve Liderler/Yöneticiler için ISTE Ulusal Eğitim Teknolojisi Standartlarını (NETS-A) incelemek, analiz etmek ve uygulam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Okulunuzda ya da ilinizde/ilçenizde uygulanacak bir Eylem Planı oluşturm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EB.tiff"/>
          <p:cNvPicPr/>
          <p:nvPr/>
        </p:nvPicPr>
        <p:blipFill>
          <a:blip r:embed="rId1"/>
          <a:stretch/>
        </p:blipFill>
        <p:spPr>
          <a:xfrm>
            <a:off x="615636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intel.tiff"/>
          <p:cNvPicPr/>
          <p:nvPr/>
        </p:nvPicPr>
        <p:blipFill>
          <a:blip r:embed="rId2"/>
          <a:stretch/>
        </p:blipFill>
        <p:spPr>
          <a:xfrm>
            <a:off x="7164360" y="587700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7630-F566-4F00-9723-96864B614547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4D6C-2F7E-47FC-AD5A-F18F546B8A3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lark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tkinli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nış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dın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kulunuz ya da ilçeniz ile ilgili bilg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örevin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744F-7137-4D5E-AF4A-5C7085C45877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019B-2D45-4924-9933-B90BABB2F36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aşlark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tkinl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br>
              <a:rPr sz="2400"/>
            </a:b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 Şablonuna Bakış</a:t>
            </a:r>
            <a:br>
              <a:rPr sz="2400"/>
            </a:b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işis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KİŞİSEL olarak ne yapabilirim?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324000" y="1557360"/>
          <a:ext cx="8496000" cy="3959280"/>
        </p:xfrm>
        <a:graphic>
          <a:graphicData uri="http://schemas.openxmlformats.org/drawingml/2006/table">
            <a:tbl>
              <a:tblPr/>
              <a:tblGrid>
                <a:gridCol w="4824360"/>
                <a:gridCol w="1224000"/>
                <a:gridCol w="1295280"/>
                <a:gridCol w="1152360"/>
              </a:tblGrid>
              <a:tr h="719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an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0472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.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ğrenm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ğret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sleki Uygulamalar / Üstlenilen Görevl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.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İşlem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ğerlendi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.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t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0CFE-166A-4AA5-8700-3FCD1E253A04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E8B1-6125-4206-A4D2-C3CA817EF64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1 | Etkinlik 2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arsayı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ğretmenlerin etkililiğini destekleyen lider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Teknoloji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nemli olduğuna ve öğrenme ve öğretmede fark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yarattığı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an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Teknoloji ve öğretmenleri destekleme konularında istekli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Bunun öğrenciler için yapılacak doğru şey olduğuna inan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DAA4-BB39-4A7E-910E-B78AB19D1232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15BD-7D42-47E9-AF9B-167D5D86EF4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1 | Etkinlik 3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ntel® Öğretmen Programını Anlamak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Neden Intel eğitime yatırım yapmaktadı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®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ğretmen Programını nasıl buluyorsunuz? Ne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9:24:28Z</dcterms:created>
  <dc:creator>dbm</dc:creator>
  <dc:description/>
  <dc:language>en-US</dc:language>
  <cp:lastModifiedBy>Hülya-HP</cp:lastModifiedBy>
  <dcterms:modified xsi:type="dcterms:W3CDTF">2010-12-05T14:34:40Z</dcterms:modified>
  <cp:revision>9</cp:revision>
  <dc:subject/>
  <dc:title>Slayt 1</dc:title>
</cp:coreProperties>
</file>